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0355467"/>
        <c:axId val="4720450"/>
      </c:barChart>
      <c:catAx>
        <c:axId val="5035546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20450"/>
        <c:crosses val="autoZero"/>
        <c:auto val="1"/>
        <c:lblAlgn val="ctr"/>
        <c:lblOffset val="100"/>
        <c:noMultiLvlLbl val="0"/>
      </c:catAx>
      <c:valAx>
        <c:axId val="472045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35546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5D62-01F3-45A8-8391-C983BB520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8F47-0B64-48DD-B209-E51958460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F8A1-C753-4B24-8535-7C15F67F0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76EB-1F68-4DC9-9FF3-F2B242B83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FD48-526D-4763-8F48-E191DD3FD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FFD4-1C74-4F05-80E7-F6F943D49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A76D-C3A3-4811-804A-6656D08B6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BE6D-2226-4435-929C-C82EFF0CA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D412-0B10-407A-9191-2FA6423D7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B72F-715C-4E5A-BF50-4AB6B125E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C010-ECF4-4C7B-B1F5-1B93C7DE1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45C5-64B4-4240-B698-6A80C1AC1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B25074-7F60-401A-A65D-B565D3DE5A4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