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12599"/>
        <c:axId val="59032059"/>
      </c:barChart>
      <c:catAx>
        <c:axId val="63212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32059"/>
        <c:crosses val="autoZero"/>
        <c:auto val="1"/>
        <c:lblAlgn val="ctr"/>
        <c:lblOffset val="100"/>
        <c:noMultiLvlLbl val="0"/>
      </c:catAx>
      <c:valAx>
        <c:axId val="59032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12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DEE-5851-4252-8E84-230FE14B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48C-B2BB-4053-B996-A39DFD0F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DF0-D617-4F8E-BABF-13CF0A91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E7A-59AE-47C4-A732-C3BD93F4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DAC-717A-441A-8619-E8F20FD4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4DC-8D13-46E3-B249-612438BD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BDF-41A9-43EC-BF57-62335C6C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0E3-3265-4D39-9CC1-8AD4A3D5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215-D6B5-4A07-BB2D-5E917A00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8D5-9E9F-425E-B82B-FF8A7195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71BF-2711-44F4-9996-8BCF942A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47E-5B7A-4330-AB02-3F2ADEDC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2550A-DD51-493B-826D-439B791819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