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644371"/>
        <c:axId val="20959283"/>
      </c:barChart>
      <c:catAx>
        <c:axId val="636443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59283"/>
        <c:crosses val="autoZero"/>
        <c:auto val="1"/>
        <c:lblAlgn val="ctr"/>
        <c:lblOffset val="100"/>
        <c:noMultiLvlLbl val="0"/>
      </c:catAx>
      <c:valAx>
        <c:axId val="209592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6443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099F-3773-4197-9C18-F1C139EF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AFA-5F23-403F-B6D6-4F9E8DD1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A522-F398-473D-AB4C-96640F4E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A0B1-17F6-4B0D-B942-176C334F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D852-65F4-4D6A-8BE6-6714370A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450-2EBA-4728-89CA-A99BE831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099-D672-490A-8717-2E122D35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B1D-0169-4540-94A9-A0CD4309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155-91A0-4081-803E-2C9590C1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439-73AA-426B-B461-3CBC73F1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212E-0141-4BAB-ACB9-857D63C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27D-F5BC-41A0-A727-067AACC4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7D191-4D81-494F-98D3-3E7324151C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