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745114"/>
        <c:axId val="89575255"/>
      </c:barChart>
      <c:catAx>
        <c:axId val="177451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575255"/>
        <c:crosses val="autoZero"/>
        <c:auto val="1"/>
        <c:lblAlgn val="ctr"/>
        <c:lblOffset val="100"/>
        <c:noMultiLvlLbl val="0"/>
      </c:catAx>
      <c:valAx>
        <c:axId val="89575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7451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DDE6-2001-454D-875D-995C3C3F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435-B495-4D30-9248-49F7716C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E458-10B7-4647-9516-62B84B2F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D0F-FFF0-4F7B-B049-A258B1422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FF3-BF82-4A3C-8EC4-BDBF9CAB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DB2-F8F4-44AE-97CE-3AECC2F6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48A4-7B95-479A-944D-10F4DBBF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CD9-80E3-4B44-A6D9-CFC80AFD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C13-44A2-40C2-9B12-AE321923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63B-DA87-47B4-8B2F-429AC21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B862-59B3-4A56-B157-EB88EBC6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C9E-6031-49BB-AE8C-70EE72E6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D47A2-F85D-4DE3-9E6B-059D8BF37F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