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1203"/>
        <c:axId val="57927795"/>
      </c:barChart>
      <c:catAx>
        <c:axId val="2321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27795"/>
        <c:crosses val="autoZero"/>
        <c:auto val="1"/>
        <c:lblAlgn val="ctr"/>
        <c:lblOffset val="100"/>
        <c:noMultiLvlLbl val="0"/>
      </c:catAx>
      <c:valAx>
        <c:axId val="57927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57E-479C-46C0-90C7-24B03BC0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718-3AEC-443F-B909-F90431FD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6F7-1313-4F2B-9633-7BB2A93B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759-B125-4939-B930-4593E94C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721-469D-419A-9E98-15A4B1D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B7A-51AE-4C3B-9415-E55BFE2B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ECF-FCF2-4F3D-BF79-E59BB13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FBD-D38F-4D64-9658-85627E6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8BE-1222-48A7-AE96-F496B1C7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A71-FC2E-4385-B0B0-3C10240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C38-052C-444F-99CF-DF21C0E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D86-D294-4B36-A6F4-4559822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BAE04-F9E1-4019-8E7C-FF202EB3A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