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03175"/>
        <c:axId val="41179658"/>
      </c:barChart>
      <c:catAx>
        <c:axId val="67903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79658"/>
        <c:crosses val="autoZero"/>
        <c:auto val="1"/>
        <c:lblAlgn val="ctr"/>
        <c:lblOffset val="100"/>
        <c:noMultiLvlLbl val="0"/>
      </c:catAx>
      <c:valAx>
        <c:axId val="41179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3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D6D-0AC7-4E3A-BB45-8A3BFE3F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DFA-C649-4662-BBAB-A6B7105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C7F-0948-4ACB-8ED5-A37B4DCA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8DB-E5B0-4CA2-8F41-575541F4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1C7-86EA-4E26-83A3-58AB1FA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805-E26A-4F12-A86A-91B467BB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A5B-E6A8-4964-8DBC-5D7F8BC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86D-6373-4409-990E-26569C1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DB8-EC1A-4CB5-B045-3B7080A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C0C-575A-4D6D-A4BA-03F1BA6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0C4-8E59-4650-8B08-FD8AFD9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9B7-C17E-4C58-AACC-58EDF9F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CF88-121F-4A02-9757-C965252EF9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