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50174"/>
        <c:axId val="2187193"/>
      </c:barChart>
      <c:catAx>
        <c:axId val="88650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7193"/>
        <c:crosses val="autoZero"/>
        <c:auto val="1"/>
        <c:lblAlgn val="ctr"/>
        <c:lblOffset val="100"/>
        <c:noMultiLvlLbl val="0"/>
      </c:catAx>
      <c:valAx>
        <c:axId val="2187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50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AC1-5B74-4DF7-B396-0B0A435D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DDF-F2AE-40E6-8CD1-1FB99A83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78B-5464-426C-8429-3C4E9D8C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FA1-E974-4C0E-B534-79911BC9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14A-D2D7-4B0D-9A4D-86E5D459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083-FDE4-47D1-B057-281B43B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163-4F4D-4BDB-A763-A608C6E6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A3C-32D0-4F6F-B986-FA8FD3D9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05C-F4D0-49FB-903B-D0E83BA3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DD0-5EE5-4BA9-AD60-4A756485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C30-13E5-4924-8330-67E073B1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829-DAF3-4876-B01D-80A3ED56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BFEF4-6F7C-416F-903F-1A9DBB1298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