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05682"/>
        <c:axId val="61690011"/>
      </c:barChart>
      <c:catAx>
        <c:axId val="48805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0011"/>
        <c:crosses val="autoZero"/>
        <c:auto val="1"/>
        <c:lblAlgn val="ctr"/>
        <c:lblOffset val="100"/>
        <c:noMultiLvlLbl val="0"/>
      </c:catAx>
      <c:valAx>
        <c:axId val="61690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05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5BB-FD4A-4059-B149-14653A63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C04-D010-473F-A8BD-98E5777D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53E-198B-41BA-BD27-A1593573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A25-15C5-4234-9B5D-BD29A19F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6DD-F803-4333-A1BC-78D0C7AA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A34-0827-49C6-9F11-E219C6BE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E2F-5171-4DF8-8DF5-BF746006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4EF-069C-47D2-9D5D-E60E8947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D14-7E74-4FC7-A4C8-E5F562C5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288-27BC-48B4-8BA0-B9CCE2D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ABE-11E1-4435-908C-C7CCC2F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E50-4DD1-4AE5-821C-2F22DE0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9D603-930B-4BFA-A4B9-402FE08EB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